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18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6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6E9-EFC9-41F1-9D99-12C48A4E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E0A-EC03-4CA1-9C1A-31BCDF0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0C2CF-3598-4A62-9D25-AF1F789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9305-D14E-4BBC-AA80-9FBC537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0823-2336-4964-8A03-1589942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768B7-27DA-4ECC-A68C-9B74B6E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C30ED-8126-454A-8214-F0D9719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92347-B683-45F9-B808-08DC277D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49751-7BD5-43B4-A6BC-005E9B42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370F0-004F-48E3-8C29-1781160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FC467-4887-4FF9-A204-AE5C8B11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50835-4978-4A90-85F1-2C0BF094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AD5-4E76-4E9E-AED2-1510F1BF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0763D-53CE-429D-A350-A2961F3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A9BBA-64C6-4E15-965C-A6276F9D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8B177-B3A8-4C00-AB9C-E426781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524F-ECEE-4A77-A93C-FCBCFA4F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CBD5B-C3CC-4E7C-A311-90D2C14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8936D-32BE-4DEB-A31F-6826FA0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B594-53D0-4300-B3A7-0574F2F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3F54F-61B0-45E8-B6F7-DB54C25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0B809-2492-4077-A9F1-0E28E953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7120B-3A5C-4976-9874-27B96603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8D4-C62C-4995-A6B2-4BF268C0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C8022-34B4-4461-834D-EB64E5E6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82560-CDDF-4B03-85C3-EC58873B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4A05F-0BED-4CA4-BD9E-F0EBC02F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1CFF-DBD2-466B-AEAE-AF3DB62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D399B-82FD-4B6E-9100-FCCBA10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5B39-B0F2-41FD-97EE-26B36A6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ED94E-84FC-4D96-B266-C7EC3E45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681D-FE97-46D8-9C78-3A9E687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AD91-570E-4D5E-A708-B256AF4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BDFB-B633-44B9-B3C4-184E58D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26B-F18B-4D5F-980E-F38109D6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DC4E-BE83-4C65-9CAB-5349AF7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3059-30D2-44DC-BC31-28A04A48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45D6-8B9C-41BD-9E0C-D42B88B5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D6BC1-E341-41DD-AEAA-037A8769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750A-1FE3-476F-9DED-87D3F37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600A7-ECBE-4924-8637-2A44432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078E-9ABD-41DF-A011-782D0D5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F07CE-EAD0-4656-B077-6221FE59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01B62-ADAA-43B0-A1B8-770969A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89AEA-249B-42AE-B7F7-398A0DF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C38E-4135-46CE-8BCB-AF19172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09D1C-76E8-4EAD-93F3-98DFA75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297EE-DDEB-4309-81CB-9F354DD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2DC27-A1A0-45EC-9F18-082A1BE9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6414A-C499-4E2B-9636-A3B9F77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CC8F6-7DD4-4065-AC80-A0B61673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FEB-8CCA-4869-BDE8-0C7045F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40C-8213-4846-90FE-BA4DC63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EFE8-AB7A-4113-9F82-364D7564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6A2-1675-437B-BED2-104CFC5F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986-7692-4EC1-A532-F370D1E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012-896E-416A-9A7E-6E462602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CADE-D485-4A3E-B9DF-F47B3BB6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3ED6-92D3-46F2-BEE2-BE2E1D2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DD3-B2B6-4171-98F3-73CA3F8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692-E7A9-4BB7-8AC4-B3BDA040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A9E-32BA-4AA7-83D5-A8E2C410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6AA2-7955-4FC8-BFFF-DE91F354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373A-52B2-46DE-92DC-6EBEFD58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C3B8-9AC3-4F3C-B2DB-09C3650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DF1B-52E3-429B-8769-96B2E35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0352-EB71-4FE5-BE29-1A3C26A6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AB3-0F81-48AB-B08A-989D002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B08B-F561-4E48-8497-7454C64B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DC24-D84B-462B-B6D6-ED7B414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1444-139D-4E7D-92C7-C0AD023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2AF8-C42D-4C85-BA61-48CE9FA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084E-471E-4742-83DC-94CC75C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553E-1C1B-43A5-9F7C-238EA431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F9BF-3B9A-46C0-8A03-1BFEB8E3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04AE-61BE-4C1A-8429-C59FD1FD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8244-E047-4904-96C8-EEDC223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8A97-F772-497E-8BA4-EF3E48F3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A98-77D0-4701-AE81-2D2B7881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A651-B566-44FA-8854-08A98A9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133C-B9FB-4A3E-8A3E-0025DBA3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9227-D9CA-4164-9A53-68BA9EF9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744B-A85B-4965-8085-6644A13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2A80-9309-4272-B7B8-361366D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0DE0-F99E-4D8D-9419-2CDD75A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4D90-7337-4AD4-817C-6E292CCB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08FD-AF8E-424F-83C6-05AA1BE0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D2F3-853D-4D60-9614-51A241E6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3E2F-8C65-4CBF-B8B6-4BD85CA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EBC-E238-49A5-A439-9E90C39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4A0B-F9F6-4450-8F09-79F5496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3593-FA5F-4BCB-929A-23EBE1D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5061-1B7A-4CB8-8ACE-C45D04F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FC28-71A5-4740-99DA-6B807E0B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B25C-5876-4918-ADD2-F2FCAB55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E4C3-7B4D-4D9D-BA7A-C672F3C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7D99-D49B-48D9-BB3C-46D58FC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6BFD-BA1C-4946-8361-BA9FDD7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CBB6-F97D-4B32-A880-A360604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203D-3686-4CAB-B889-5710B9F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95D-4D92-4B69-B05A-19DAD4D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029F-1DAB-44AA-A1ED-B75DE644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DE45-2A4E-4286-8A4E-90D70585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89F67-7774-4904-A2CE-38E90B05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9061-EF9F-4A4C-96CA-49FC9D56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7CCF9-DA56-4B7D-B1D7-B4823A4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0DD8-CC35-40DD-A58F-C3C2CFC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07277-6DE7-4E06-8068-59F16073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8203-4184-45A2-9A67-9F6949D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8D3C-7485-4023-B33C-A475D97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781C-948E-4EC3-80A4-27734A0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003-0A1B-49EC-A34F-F8502D8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E196-40F1-4C98-A829-F4A1CFCF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C4BE-C844-43F8-8A58-9DB26997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E6270-C86E-413A-A4A1-207C04B3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7FF7-BAE0-47E3-9AA3-505B2D0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60DB-DB9B-42D6-A994-8E0E2443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7122-7E93-4F06-A7AF-D0D371C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7380-032E-4078-BE08-D2CD4FAF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C827-350A-4A51-BCAC-DEE3FF2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639E-6127-4D2F-9F9A-907D1DB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348F-0092-44A8-BCA6-D3308D5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A6C-1EBF-441B-8ECF-8C22DED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8FA60-5B36-4F0E-AFD4-FBA852AF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AE392-BDFD-439D-8395-53C4331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5F337-C060-4203-8646-79B68FF5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A946-23F9-4D88-8C80-FF3D5236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25D9-AFAB-4B4A-AE2D-7CC3AE1E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17550-99F2-473A-9B76-8E8F64EC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D0AB-77C1-438E-A045-3140A3D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4E46-E012-4B59-B925-FD9D489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12F9-0C7D-41E3-8D27-498E9291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B216-7ED0-41D4-9E62-9756AAF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35A-9A41-4265-B82F-54FC43F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EB49-C56E-4E28-A789-4DD7CB7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7F92-9E0F-4919-B001-B88A015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EB5B-5E2C-4E55-8BA3-973F49E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8DBF-6F04-4875-947D-E55FD97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FC24-E12B-4C5D-8C32-B24A471E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2A297-65B1-48B2-B927-187B6C2F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CCBB4-4DDA-456B-95F8-4B56103D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302C-D0BD-41A1-94F7-A9A36899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AD061-66DA-47AB-AC45-4B99530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0AA1D-2510-460C-AD01-8954E46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C6F-4DBE-423E-A796-D113EFB7BB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BDF-B23D-4B02-A61F-447BFFD186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F94-C7D2-4862-B384-540161C137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E397-3974-486D-A614-A8457240CD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FEE-C022-4461-A2B3-AC100A1863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F77-CC76-4071-B8D5-3E28C10F6C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0BDC-50EF-46D3-9FBE-6C13F19C39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922C-EFBF-4D1F-BAC1-8FC8E30B73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29B-FC58-4A3E-AF5A-8E8724EEA8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842-F11F-48C5-8EF8-06679E79EA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24C0-3868-40FC-BC8F-3B7722E4E6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9913-642F-40B4-8903-BFF814A2EF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duljinu</a:t>
            </a:r>
            <a:br>
              <a:rPr sz="4400"/>
            </a:b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površi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228600" y="1600200"/>
            <a:ext cx="6858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opseg stabla u parku ili dvorištu koristeći se ravnalom, tankim užetom i pribadač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u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ko drva omotaj uže i pričvrsti ga pribadačom. Zatim odmotaj vrpcu i postavi je na stol. Izmjeri udaljenost između rupica od pribad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2190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dulji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619920" y="1828800"/>
            <a:ext cx="82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površina poda tvoje sobe? Kako se određ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iskazujemo veličinu teritorija neke drža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li zemljiš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276360" cy="2463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legalizacija-skica"/>
          <p:cNvPicPr/>
          <p:nvPr/>
        </p:nvPicPr>
        <p:blipFill>
          <a:blip r:embed="rId3"/>
          <a:stretch/>
        </p:blipFill>
        <p:spPr>
          <a:xfrm>
            <a:off x="4572000" y="3048120"/>
            <a:ext cx="36021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P</a:t>
            </a: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ovršina 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57120" y="1356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a – veličina površine nekog tijela ili l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za površinu j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mjerna jedinica površine 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zna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88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6705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Manje jedinice površine s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7"/>
          <p:cNvSpPr/>
          <p:nvPr/>
        </p:nvSpPr>
        <p:spPr>
          <a:xfrm>
            <a:off x="304920" y="1523880"/>
            <a:ext cx="41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dec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cent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mil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405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9903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mjerna jedinica, četvorni kilometa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m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6338880" cy="16765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676520" y="2895480"/>
            <a:ext cx="2962080" cy="2000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05520" y="2819520"/>
            <a:ext cx="2295360" cy="22096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7200" y="12189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ršina lika oblika pravokutnika i kvadrata računa se kao umnožak duljina njihovih stran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880" y="1676160"/>
            <a:ext cx="4191120" cy="685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površina poda sob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505320" cy="2428920"/>
          </a:xfrm>
          <a:prstGeom prst="rect">
            <a:avLst/>
          </a:prstGeom>
          <a:ln w="0">
            <a:noFill/>
          </a:ln>
        </p:spPr>
      </p:pic>
      <p:sp>
        <p:nvSpPr>
          <p:cNvPr id="583" name="Content Placeholder 7"/>
          <p:cNvSpPr/>
          <p:nvPr/>
        </p:nvSpPr>
        <p:spPr>
          <a:xfrm>
            <a:off x="4800600" y="2514600"/>
            <a:ext cx="347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= a·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Slika 1" descr=""/>
          <p:cNvPicPr/>
          <p:nvPr/>
        </p:nvPicPr>
        <p:blipFill>
          <a:blip r:embed="rId2"/>
          <a:stretch/>
        </p:blipFill>
        <p:spPr>
          <a:xfrm>
            <a:off x="353880" y="1085760"/>
            <a:ext cx="101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25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Površina nepravilnih lik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469800" y="2000160"/>
            <a:ext cx="66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bivena površina lista je približna vrij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281520" y="3714840"/>
            <a:ext cx="37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ršina svakoga kvadratić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, 5 cm · 0, 5 cm = 0, 25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Content Placeholder 6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29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2"/>
          <p:cNvSpPr/>
          <p:nvPr/>
        </p:nvSpPr>
        <p:spPr>
          <a:xfrm>
            <a:off x="228600" y="1600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tisni dlan na papir i iscrtaj njegove kon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di  približnu vrijednost površine dl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24717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42600" y="1828800"/>
            <a:ext cx="549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dulj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duljinu izraziti samo broj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tvoja vis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2685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3"/>
          <p:cNvSpPr/>
          <p:nvPr/>
        </p:nvSpPr>
        <p:spPr>
          <a:xfrm>
            <a:off x="563760" y="1600200"/>
            <a:ext cx="8381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Što je dulj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Što znači izmjeriti dulji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je se još mjerne jedinice uz metar rabe za mjerenje dulj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edi barem tri fizikalne velič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debljinu jedne vlasi k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te duljinu udžbenika i ispravno zapišite izmjereni podat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eći se znakom za duljinu kao fizikalnom veličinom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govarajućom  mjernom jedini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ravnalom duljinu i širinu stranice ovog udžbenika te izračuna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jezinu  površ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54040" y="74088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Duljina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56760" y="1356840"/>
            <a:ext cx="8481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ulj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ovna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a kojom označava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daljenost između krajnjih točaka tijela kojeg mjer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e za duljin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 (a,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819520" y="4038480"/>
            <a:ext cx="3200400" cy="2056680"/>
            <a:chOff x="2819520" y="4038480"/>
            <a:chExt cx="3200400" cy="205668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2819520" y="4038480"/>
              <a:ext cx="320040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Box 8"/>
            <p:cNvSpPr/>
            <p:nvPr/>
          </p:nvSpPr>
          <p:spPr>
            <a:xfrm>
              <a:off x="3032640" y="5726880"/>
              <a:ext cx="275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Pravilno odčitavanje dulj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6520" y="76212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Fizi</a:t>
            </a: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kalna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veličina i mjeren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iz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l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velič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o svojstvo tijela ili tvari koje se može mjer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4"/>
          <p:cNvSpPr/>
          <p:nvPr/>
        </p:nvSpPr>
        <p:spPr>
          <a:xfrm>
            <a:off x="500040" y="3357720"/>
            <a:ext cx="84916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stupak određivanja vrijednosti neke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9903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uljinu tijela izražavamo brojčanom vrijednošću i mjernom jedinicom dulj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5" descr=""/>
          <p:cNvPicPr/>
          <p:nvPr/>
        </p:nvPicPr>
        <p:blipFill>
          <a:blip r:embed="rId1"/>
          <a:srcRect l="0" t="32939" r="0" b="0"/>
          <a:stretch/>
        </p:blipFill>
        <p:spPr>
          <a:xfrm>
            <a:off x="2476440" y="2209680"/>
            <a:ext cx="3857760" cy="17859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3262320" y="3924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= 6,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7"/>
          <p:cNvCxnSpPr/>
          <p:nvPr/>
        </p:nvCxnSpPr>
        <p:spPr>
          <a:xfrm flipH="1">
            <a:off x="2547720" y="4352760"/>
            <a:ext cx="7862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3" name="Straight Arrow Connector 8"/>
          <p:cNvCxnSpPr/>
          <p:nvPr/>
        </p:nvCxnSpPr>
        <p:spPr>
          <a:xfrm>
            <a:off x="4976640" y="4424400"/>
            <a:ext cx="8582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4" name="Straight Arrow Connector 9"/>
          <p:cNvCxnSpPr/>
          <p:nvPr/>
        </p:nvCxnSpPr>
        <p:spPr>
          <a:xfrm>
            <a:off x="4118400" y="449532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5" name="TextBox 16"/>
          <p:cNvSpPr/>
          <p:nvPr/>
        </p:nvSpPr>
        <p:spPr>
          <a:xfrm>
            <a:off x="542880" y="4952880"/>
            <a:ext cx="284472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k fizikalne velič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3681360" y="5334120"/>
            <a:ext cx="257184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rojčana vrij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8"/>
          <p:cNvSpPr/>
          <p:nvPr/>
        </p:nvSpPr>
        <p:spPr>
          <a:xfrm>
            <a:off x="6131160" y="4567320"/>
            <a:ext cx="209340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jerna jedi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56760" y="928440"/>
            <a:ext cx="8481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e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duljine (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na jedinica Međunarodnog sustava jedinica (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4" descr="metre-kilo_250"/>
          <p:cNvPicPr/>
          <p:nvPr/>
        </p:nvPicPr>
        <p:blipFill>
          <a:blip r:embed="rId1"/>
          <a:stretch/>
        </p:blipFill>
        <p:spPr>
          <a:xfrm>
            <a:off x="762120" y="3200400"/>
            <a:ext cx="2857320" cy="1895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800PX-~1"/>
          <p:cNvPicPr/>
          <p:nvPr/>
        </p:nvPicPr>
        <p:blipFill>
          <a:blip r:embed="rId2"/>
          <a:stretch/>
        </p:blipFill>
        <p:spPr>
          <a:xfrm>
            <a:off x="4648320" y="32004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6"/>
          <p:cNvSpPr/>
          <p:nvPr/>
        </p:nvSpPr>
        <p:spPr>
          <a:xfrm>
            <a:off x="756360" y="5562720"/>
            <a:ext cx="25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talon metra i kilog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 muzeju za mjere i utege u Pari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565520" y="5562720"/>
            <a:ext cx="25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talon metra ucrtan na zidu u uli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ugirard u Parizu iz 1796. g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Predmetci za tvorbu mjernih jedin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i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( mm) – tisući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mm = 0, 00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n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( cm ) – sto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cm = 0, 0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  ( dm ) – dese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dm = 0,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il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    ( km) – tisuću met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km = 1 000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889520" y="5410080"/>
            <a:ext cx="4254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Iz povijesti fizi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7"/>
          <p:cNvGrpSpPr/>
          <p:nvPr/>
        </p:nvGrpSpPr>
        <p:grpSpPr>
          <a:xfrm>
            <a:off x="214200" y="1357200"/>
            <a:ext cx="7737840" cy="3248280"/>
            <a:chOff x="214200" y="1357200"/>
            <a:chExt cx="7737840" cy="3248280"/>
          </a:xfrm>
        </p:grpSpPr>
        <p:pic>
          <p:nvPicPr>
            <p:cNvPr id="548" name="Picture 5" descr=""/>
            <p:cNvPicPr/>
            <p:nvPr/>
          </p:nvPicPr>
          <p:blipFill>
            <a:blip r:embed="rId1"/>
            <a:stretch/>
          </p:blipFill>
          <p:spPr>
            <a:xfrm>
              <a:off x="214200" y="1357200"/>
              <a:ext cx="298800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Box 5"/>
            <p:cNvSpPr/>
            <p:nvPr/>
          </p:nvSpPr>
          <p:spPr>
            <a:xfrm>
              <a:off x="3314160" y="1785600"/>
              <a:ext cx="4637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i Egipat – jedinice dulj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ljina faraonova lakta i stop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0" name="Picture 6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648240" cy="2697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8"/>
          <p:cNvSpPr/>
          <p:nvPr/>
        </p:nvSpPr>
        <p:spPr>
          <a:xfrm>
            <a:off x="1771200" y="5029200"/>
            <a:ext cx="32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gleski kralj Henrik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6774840" y="4357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9760" y="58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Uređaji i pomagala za mjerenje dulj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" descr="metar stolarski"/>
          <p:cNvPicPr/>
          <p:nvPr/>
        </p:nvPicPr>
        <p:blipFill>
          <a:blip r:embed="rId1"/>
          <a:stretch/>
        </p:blipFill>
        <p:spPr>
          <a:xfrm>
            <a:off x="380880" y="1447920"/>
            <a:ext cx="241308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97M"/>
          <p:cNvPicPr/>
          <p:nvPr/>
        </p:nvPicPr>
        <p:blipFill>
          <a:blip r:embed="rId2"/>
          <a:stretch/>
        </p:blipFill>
        <p:spPr>
          <a:xfrm>
            <a:off x="4343400" y="2386080"/>
            <a:ext cx="4800600" cy="3487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teodolit"/>
          <p:cNvPicPr/>
          <p:nvPr/>
        </p:nvPicPr>
        <p:blipFill>
          <a:blip r:embed="rId3"/>
          <a:stretch/>
        </p:blipFill>
        <p:spPr>
          <a:xfrm>
            <a:off x="6862680" y="1828800"/>
            <a:ext cx="2019240" cy="2976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krojacki metar"/>
          <p:cNvPicPr/>
          <p:nvPr/>
        </p:nvPicPr>
        <p:blipFill>
          <a:blip r:embed="rId4"/>
          <a:stretch/>
        </p:blipFill>
        <p:spPr>
          <a:xfrm>
            <a:off x="1828800" y="45529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subler"/>
          <p:cNvPicPr/>
          <p:nvPr/>
        </p:nvPicPr>
        <p:blipFill>
          <a:blip r:embed="rId5"/>
          <a:stretch/>
        </p:blipFill>
        <p:spPr>
          <a:xfrm>
            <a:off x="3276720" y="2895480"/>
            <a:ext cx="1892160" cy="1892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55M"/>
          <p:cNvPicPr/>
          <p:nvPr/>
        </p:nvPicPr>
        <p:blipFill>
          <a:blip r:embed="rId6"/>
          <a:stretch/>
        </p:blipFill>
        <p:spPr>
          <a:xfrm>
            <a:off x="3200400" y="1828800"/>
            <a:ext cx="1536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3:37Z</dcterms:modified>
  <cp:revision>49</cp:revision>
  <dc:subject/>
  <dc:title>Slide 1</dc:title>
</cp:coreProperties>
</file>